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wmf" ContentType="image/x-wmf"/>
  <Override PartName="/ppt/media/image10.png" ContentType="image/png"/>
  <Override PartName="/ppt/media/image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446B45D-2EB8-431F-883F-0F7FE238D64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98E756C-FAF6-42A1-B195-82B326DD691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39DF684-FA7E-43B0-AAB2-6405AD9DAB3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1746-B047-4AD3-B2FD-841509CE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5143-CAAB-4CFC-BA58-29909224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88D65F-F4D5-4D15-8E9C-2E9AF10AE56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A65D71-11D0-4D91-A3FF-FD43869E148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8E2C06-C26C-48AC-9C4C-50D5812BAD0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6702BA-C9AD-4921-884B-2A068060685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712535-47C4-42D7-BFD7-B730313E57F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78E054-E226-4E3C-A8FA-55AC8BA94CC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EAF569-15CD-4E34-8C33-C8D49351E05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F823AE-DB4B-461D-B0F0-E6CDA66C96A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88AB11-9DB2-4751-B580-7F62BA988DC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EBF650-8CA3-4211-89AD-FC1D36EA5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91F9-BD51-4430-A338-44FE6DDC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B772D0-3E3F-44DA-81E0-290A606B9DD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4017F0-120C-443E-8032-2543BD355F2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C2D70B-45A0-41C5-B67D-9D753A43C39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61D6F3-8FD5-4ABF-B020-F9D1169D049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A5BD80-E78E-4807-8A9B-3A71C9A6905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F42A3A-3FC4-43DC-8C9A-96668047BD5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E48B58-8787-45E2-A96C-563ED436AE5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027CFF-57C0-4FE1-B252-28235240190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D895A0-300E-48DB-A78E-7D5006201D0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AACBD8-DC07-4A50-8004-95E1D87B4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980C-0BA7-4261-B8BB-82F79FFE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A61B87-63BE-4042-8EA1-803234CD478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123A9-412B-426F-83CC-E67F4813CE4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AC5A2-B195-4593-9E96-E8E92102F98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7FAA0-AD36-4945-A537-B9968BBA301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5B688-4390-4672-BB65-9104F1F8A75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C4528-9D84-4357-8BE6-EF631D07475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601CD-A612-4B4D-A9A9-319C180AFAD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C90F6-AF62-433F-8395-B70D4F4E799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B1A0A-AA8E-42FD-B158-2D32E2E2FA2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6D996-E4AD-48E2-87C1-5EECCE1364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62981-A778-45D6-B0E4-7CE5526B123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2FF2F-886C-4C00-A369-C850E21F39A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DE31E-8551-4D79-A08C-A3BCF2F26B4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4E0701-E3B8-4E16-9176-1FD05919EA7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94745B-D240-4688-83CA-96DB34BDDE7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450D79-2FEB-4C5E-BDAB-36344183C58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14C0C1-066A-440D-BBD8-9E8F0BC4745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4397F4-1B4E-4601-B2F4-293429443D5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1773EA-EBB1-4C71-83ED-6468AF7C2D2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FD78DC-7FB0-4E55-8436-FC83CAC0A4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1226C6-25A2-4A66-8B35-FFBEDE7A151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67816D-F11F-493C-9874-D4E1EE17B24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E47DD7-A993-44D9-9CAF-D5DE6D7DA6B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601CDA-B3E0-4318-9F6F-0A772E38DD4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E100C7-2801-4329-AF91-CB1D2873330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09A185-B412-468A-AB54-AC24E4B5153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776454-7D64-451A-9E37-E1331E22C6B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96C232-8B32-456B-97D1-7CD0AF7E7AB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F851A8-B1D8-47B8-B1B9-B2C4C5AB583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877CED-A141-481C-B5E5-1F30313BCC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42CB29-178D-4650-B993-8FADA1F8630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034685-8617-4757-A48B-CB9745BBE1F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87BB01-35B1-457C-A508-C2AF9F0D937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DB77B6-C0C8-4AF3-868E-3167DBF951D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02E515-4798-42AC-B932-55D89DB9660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AE0ECD-4024-4501-9D03-15C19BAEF78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E20706-08BF-416F-9380-1A12BB77601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7FAE8-3358-42E4-9F69-320441F1071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CD700-28DB-4DE9-A6DA-30BB14EC5FB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4491E-2CCB-4D82-A4C8-08248B9BE2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5D7A2-AF22-4DAC-AB85-2512B584A68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F51DA-8381-47F5-BB3E-E8781E89071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1C6BE-B53D-4B7C-AA7D-29E8442CBAB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BFA3D-FF89-42B9-87AD-9C9D7A3F7ED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68418-4896-4F1B-9423-292003C8E94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3DDA7-2484-498E-B35B-60B7E431941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6407F-C865-4D6F-AF13-40F2D4D6260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7D6D5-5E88-4B91-B3A7-A0EEB404CC1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1359B-34EC-4073-AF59-917A19F3778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8516AB-766C-4C5A-85D6-9544943C84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89AEA1-261F-4124-B027-378A007D5C6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B5C0CF-BD0E-4D92-B554-EB26874D3F3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67A44B-9A43-4384-9C0D-28E9BF973D1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ECE4DF-DA27-47F2-9585-CEEC273BA9B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176E38-CD1B-4846-A02F-DD1F25061A2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FFC082-8A38-41B7-A851-8957AD09326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98DB1C-A970-44EE-B801-2BED72BAEFE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B77AE6-930D-4151-91E2-E8FE030AD50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36B517-2CB7-4A27-87DB-CA55EF71C3A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2EBB82-2E7A-4C6D-8AF5-BF5B8E70BA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A0056D-E89F-473A-B79B-91303DEEF0A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1BDEF8-F648-4068-8870-ED80AFC30D0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5E8BC2-2E41-4AE3-B519-1D4632558FF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3365AF-91D4-4B23-878F-8B0BC1D5C55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695AA8-6FE7-4851-AEE9-B461B5956B6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8AE562-4231-476B-B2DF-8AA98A5F56E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3B57C5-3C03-4A2A-AF15-30C2538333E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8D5996-61D8-40CE-81C7-97D88F03F6A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C8CC12-FB45-418F-AC71-55C0723A9DE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3E378A-92AF-4D75-A4E5-0EE96EA598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A0C81A-6816-4BAF-948C-72D8D397111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36DE0F-A53C-4F79-893A-3511C117376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B9C560-313E-4919-884B-E292F221B82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F3E4-A4B8-4788-8B65-A060AEC7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879DD-E037-431D-A0E8-6E56340E01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25A0F-F26B-4DC7-836E-F41883EAED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3FF77-C69F-46BE-B784-E663E6745D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55E82-F472-465A-8439-456C6807DB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2C237-DD9B-40EA-9EA7-19DA0CF346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E3D0-17F7-463D-9775-B31CFE35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0CDB8-DF87-405E-B511-A7EA7BED59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15A29-658D-4C97-8882-721ADF1991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8105C-7870-444E-B5F7-E544BCE561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666E2-E888-416E-A0F7-023A5A6C71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EBE7D-9508-4782-BF61-D071DF1057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D695B-2A5D-4874-94C2-309D8721E6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BE044-B04D-477D-99F7-D6A3C8BBCB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2253D-08B6-4CC1-88C0-72C22974D73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23CC6-5596-4D22-A180-6C92C93119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F5C98-396B-4C77-876E-08CC6206E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580E-9897-4A85-98BB-F0CE19D5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76E14-3D05-4742-BF57-3F2CFE34015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AD334-4B9E-4FAE-9924-4C70C4ED44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2274B-3A4E-427A-BDB2-C8FEE95706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FB1A8-7969-454A-B5D0-0C172CA6E2B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A2EE6-9722-43A7-986B-90EF85B0E60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88279-5565-4463-8130-EB5B890828C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025F4-4A73-4A83-BC50-E79ADAC87C5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BC689-5728-4E32-B78B-9F95217A53B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90FC1-57AC-4800-B9A7-61AE630EAD0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9895-F86A-4822-820D-E817490F9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ED5D-A9A7-43F1-BEBE-3BDBE87B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3A2B-D8BD-4E3F-AFF0-7C79F5C6646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15E5-9779-4238-9906-74C77A6AD1E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479F-4BF9-4816-8674-6503C7FD671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806B-37D0-4BD2-B005-A4988EA3864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79A0-AA6D-4474-8615-099605C75BB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992C-5C3D-489B-BE0F-CA9DD856DF1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10D3-8205-494F-97E5-181FEC1DCA3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C2E8-0353-45B8-B434-B3AFC6897B9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5E58-60CD-486E-A091-78018B31D46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4550-9BED-4024-8E01-773A9329F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D476-537A-4E97-A607-A63CBD4A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EB98-BC80-438D-880A-FBA06DC9F4A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0F7525-FA31-499D-98BF-957A99D4222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611A0F-A880-48E6-AE76-C08449117E9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6C31BA-055A-4F14-AD31-8068F2AAD40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44AEED-EED3-4F06-903A-199FB65A390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4E4F3B-4A75-414C-BC0A-0EC86511CCF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ACF1EC-E5D3-4A96-A6D8-C9F5F2A4570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6CA6D4-A5D1-4D9A-82F0-739CEA25AB4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EE1CF6-3991-485A-9090-E5EC8AFDB52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F3973A-DBED-49C2-B5F1-1D0BF5355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7D1A-E041-4FE2-B09A-323EF41A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B529ED-4C49-4D14-944D-5D79811CCB7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3E0312-2132-4572-9737-E815A0B9B5E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BC897C-9B5E-4485-A822-4D445D6899E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33321-72EE-4232-9E9D-7E3DA7885E8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90FA5-98E2-4643-A695-961BB0A3FB0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E220C-60A3-4BE5-8110-5B4A23E2662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7FD0B8-BE33-43BB-9628-126133EE4C2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ED44A-CAF3-4BB4-A38C-AC0E4E35C98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1E6E3-FC44-45F5-BE91-01135F1774C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67F381-F3FF-4613-8F9B-7AA780086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D8E4-A524-436A-B982-FC983405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7726C9-878D-49CF-AB9C-552F975BD69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8AFBE-8538-45FA-AAA9-1004EF90C2E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0CD1D1-8169-47B5-98D8-447ADE2A380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E475BF-79D1-47A8-A2EE-4CAD8B51271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6D306-81BE-422E-900F-3926A5662C3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ECCE1-8677-4941-AD6F-FE421B33AE8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76F5A-F91C-4724-8755-F300926D3D9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86D0F-C413-463D-B9CA-F7EC1D92C48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CEDDA-3D63-4E6C-BE9A-0C71D3FF098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999F6-686C-47BF-B4D6-95F618F69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54E2-46F7-42AA-ACA7-4E9612CC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4D23F-3473-4BD0-81AB-2CD3287C3D8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86D99-C3F3-49D2-9E75-A4C817B6729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20227-D2EF-467A-8FBC-8210C31784B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300C2-C9F9-40DE-9426-60EC0ED1C86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5875D-6FA2-4BC9-BC52-B68BB7EF490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66EA5-3D95-4052-994E-FDCD910E578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896FD-21B1-49D3-AEC9-FB7FA32B7B6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95AC99-7510-4DD6-AC5A-F5DE50AA6CA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2C0AFF-8E31-4A52-A440-5ED475DE80C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61C951-D21A-4E71-856A-608D20766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B1F1F39-472F-4187-8F70-867D90DBE28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151EC1E-743C-44D5-82A3-950351F8C6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D658E0-53CD-4B2D-AC8F-B3C4734F223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16E627D-2D41-431B-8889-E983D54630C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FD05061-9635-4240-979B-684B7A2ABC3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905CB1E-3226-485D-BDA0-A301D27388D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0325997-EED0-43CF-AAA8-FF690157949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34735D9-8D42-4831-8D24-2DB6DCF1A3E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817A066-6E9C-4C68-BE6C-AF66DAE93BB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C5CA170-7B9F-48A3-BA11-D7895F64C6A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88F6D98-180B-4740-90BB-CB411CBAA74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668E794-516B-47A9-A4A9-864691C9E4D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139A519-A220-404F-8114-04C51611738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9DC0B14-E881-4B57-87DF-CFB90F71B9D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E5078E9-BA9A-4C90-8CED-889C60D30A5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EFADB62-9972-46E2-83F0-E2D3B9FC2FD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2208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sagatavo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30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šu pieteikumu sagatavošana un iesniegšana Espresso sistē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4300560"/>
            <a:ext cx="5829120" cy="666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5. gada 27. augustā, plkst. 11:00 un 15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178600"/>
            <a:ext cx="4868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833EE14-C044-4E01-9928-C570894C867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b050"/>
                </a:solidFill>
                <a:latin typeface="Verdana"/>
                <a:ea typeface="Verdana"/>
              </a:rPr>
              <a:t>Par studiju vizītēm – jaunu projektu veidu Nordplus Jauniešu apakšprogrammā -  atsevišķs seminārs 28.08.25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Box 10"/>
          <p:cNvSpPr/>
          <p:nvPr/>
        </p:nvSpPr>
        <p:spPr>
          <a:xfrm>
            <a:off x="250920" y="3706920"/>
            <a:ext cx="34653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Calibri"/>
              </a:rPr>
              <a:t>https://www.viaa.gov.lv/lv/jaunums/notiks-tiessaistes-seminari-par-nordplus-2025-gada-studiju-vizisu-konkurs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2" descr=""/>
          <p:cNvPicPr/>
          <p:nvPr/>
        </p:nvPicPr>
        <p:blipFill>
          <a:blip r:embed="rId1"/>
          <a:stretch/>
        </p:blipFill>
        <p:spPr>
          <a:xfrm>
            <a:off x="3022560" y="2103480"/>
            <a:ext cx="581652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"/>
          <p:cNvPicPr/>
          <p:nvPr/>
        </p:nvPicPr>
        <p:blipFill>
          <a:blip r:embed="rId1"/>
          <a:stretch/>
        </p:blipFill>
        <p:spPr>
          <a:xfrm>
            <a:off x="3179880" y="1238400"/>
            <a:ext cx="5816520" cy="523872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savu un partneru organizāciju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rdplus datubāzē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bām organizācijām sistēma ģener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pliecinājuma vēstules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, kuras jāparaksta visu projektā iesaisīt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7EB76BE-D4B1-48BC-B72D-E60A369CA73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1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2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3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4" name="Title 1"/>
          <p:cNvSpPr/>
          <p:nvPr/>
        </p:nvSpPr>
        <p:spPr>
          <a:xfrm>
            <a:off x="259092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b7d91"/>
                </a:solidFill>
                <a:latin typeface="Verdana"/>
                <a:ea typeface="Verdana"/>
              </a:rPr>
              <a:t>Projektā iesaistītās organizācijas – koordinators un partne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4" descr=""/>
          <p:cNvPicPr/>
          <p:nvPr/>
        </p:nvPicPr>
        <p:blipFill>
          <a:blip r:embed="rId1"/>
          <a:stretch/>
        </p:blipFill>
        <p:spPr>
          <a:xfrm>
            <a:off x="4673520" y="3238560"/>
            <a:ext cx="3152880" cy="320364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" descr=""/>
          <p:cNvPicPr/>
          <p:nvPr/>
        </p:nvPicPr>
        <p:blipFill>
          <a:blip r:embed="rId2"/>
          <a:stretch/>
        </p:blipFill>
        <p:spPr>
          <a:xfrm>
            <a:off x="3878280" y="-214200"/>
            <a:ext cx="5478480" cy="317160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, ja nav, tad jāpievieno.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lieto pati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9" name="Left Arrow 13"/>
          <p:cNvSpPr/>
          <p:nvPr/>
        </p:nvSpPr>
        <p:spPr>
          <a:xfrm rot="16200000">
            <a:off x="5375160" y="2305080"/>
            <a:ext cx="1666800" cy="355320"/>
          </a:xfrm>
          <a:prstGeom prst="leftArrow">
            <a:avLst>
              <a:gd name="adj1" fmla="val 50000"/>
              <a:gd name="adj2" fmla="val 54533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Sagatavošanas vizītes apraks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itle 1"/>
          <p:cNvSpPr/>
          <p:nvPr/>
        </p:nvSpPr>
        <p:spPr>
          <a:xfrm>
            <a:off x="1128600" y="1914480"/>
            <a:ext cx="70423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Rokasgrāmata, 43. lpp (pdf),  sadaļa  «The Application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2" descr=""/>
          <p:cNvPicPr/>
          <p:nvPr/>
        </p:nvPicPr>
        <p:blipFill>
          <a:blip r:embed="rId1"/>
          <a:stretch/>
        </p:blipFill>
        <p:spPr>
          <a:xfrm>
            <a:off x="1128600" y="3162240"/>
            <a:ext cx="73756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"/>
          <p:cNvPicPr/>
          <p:nvPr/>
        </p:nvPicPr>
        <p:blipFill>
          <a:blip r:embed="rId1"/>
          <a:stretch/>
        </p:blipFill>
        <p:spPr>
          <a:xfrm>
            <a:off x="2389320" y="919080"/>
            <a:ext cx="6254640" cy="5019840"/>
          </a:xfrm>
          <a:prstGeom prst="rect">
            <a:avLst/>
          </a:prstGeom>
          <a:ln w="0">
            <a:noFill/>
          </a:ln>
        </p:spPr>
      </p:pic>
      <p:sp>
        <p:nvSpPr>
          <p:cNvPr id="79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8A9C062-8104-45D0-9308-3D7E3ECFF2A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Īsi jāapraksta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paredzamā  projekta iece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Aprakstiem jābūt koncentrētiem -  un vienlaikus tiem jāsniedz skaidrs priekšstats gan par projekta ieceri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6" name="Straight Arrow Connector 12"/>
          <p:cNvCxnSpPr/>
          <p:nvPr/>
        </p:nvCxnSpPr>
        <p:spPr>
          <a:xfrm>
            <a:off x="1958760" y="220932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7" descr=""/>
          <p:cNvPicPr/>
          <p:nvPr/>
        </p:nvPicPr>
        <p:blipFill>
          <a:blip r:embed="rId1"/>
          <a:srcRect l="0" t="6263" r="0" b="0"/>
          <a:stretch/>
        </p:blipFill>
        <p:spPr>
          <a:xfrm>
            <a:off x="3405240" y="933480"/>
            <a:ext cx="4903560" cy="4375080"/>
          </a:xfrm>
          <a:prstGeom prst="rect">
            <a:avLst/>
          </a:prstGeom>
          <a:ln w="0">
            <a:noFill/>
          </a:ln>
        </p:spPr>
      </p:pic>
      <p:sp>
        <p:nvSpPr>
          <p:cNvPr id="798" name="Title 1"/>
          <p:cNvSpPr/>
          <p:nvPr/>
        </p:nvSpPr>
        <p:spPr>
          <a:xfrm>
            <a:off x="0" y="1943280"/>
            <a:ext cx="2849400" cy="32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apraksta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i jābalstās uz projekta pieteikuma plānošanu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(mērķi, uzdevumi, rezultāti, norise…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"/>
          <p:cNvPicPr/>
          <p:nvPr/>
        </p:nvPicPr>
        <p:blipFill>
          <a:blip r:embed="rId1"/>
          <a:srcRect l="0" t="8694" r="0" b="0"/>
          <a:stretch/>
        </p:blipFill>
        <p:spPr>
          <a:xfrm>
            <a:off x="3948120" y="549360"/>
            <a:ext cx="4456080" cy="3079800"/>
          </a:xfrm>
          <a:prstGeom prst="rect">
            <a:avLst/>
          </a:prstGeom>
          <a:ln w="0">
            <a:noFill/>
          </a:ln>
        </p:spPr>
      </p:pic>
      <p:sp>
        <p:nvSpPr>
          <p:cNvPr id="80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FAD8D76-D96B-4E16-A625-0C0AB4A0243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9"/>
          <p:cNvCxnSpPr/>
          <p:nvPr/>
        </p:nvCxnSpPr>
        <p:spPr>
          <a:xfrm flipH="1">
            <a:off x="4258800" y="2095200"/>
            <a:ext cx="16560" cy="22658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2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8" descr=""/>
          <p:cNvPicPr/>
          <p:nvPr/>
        </p:nvPicPr>
        <p:blipFill>
          <a:blip r:embed="rId2"/>
          <a:stretch/>
        </p:blipFill>
        <p:spPr>
          <a:xfrm>
            <a:off x="3208320" y="4361040"/>
            <a:ext cx="3828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"/>
          <p:cNvPicPr/>
          <p:nvPr/>
        </p:nvPicPr>
        <p:blipFill>
          <a:blip r:embed="rId1"/>
          <a:srcRect l="0" t="0" r="0" b="76419"/>
          <a:stretch/>
        </p:blipFill>
        <p:spPr>
          <a:xfrm>
            <a:off x="4597560" y="4807080"/>
            <a:ext cx="3828960" cy="720720"/>
          </a:xfrm>
          <a:prstGeom prst="rect">
            <a:avLst/>
          </a:prstGeom>
          <a:ln w="0">
            <a:noFill/>
          </a:ln>
        </p:spPr>
      </p:pic>
      <p:sp>
        <p:nvSpPr>
          <p:cNvPr id="805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itle 1"/>
          <p:cNvSpPr/>
          <p:nvPr/>
        </p:nvSpPr>
        <p:spPr>
          <a:xfrm>
            <a:off x="100080" y="4184640"/>
            <a:ext cx="344808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bligāti jāpievieno partneru apliecinājuma vēstules (tai skaitā arī no savas organizācijas)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7" name="Straight Arrow Connector 6"/>
          <p:cNvCxnSpPr/>
          <p:nvPr/>
        </p:nvCxnSpPr>
        <p:spPr>
          <a:xfrm>
            <a:off x="2827440" y="4327200"/>
            <a:ext cx="1745280" cy="626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8" name="Picture 2" descr=""/>
          <p:cNvPicPr/>
          <p:nvPr/>
        </p:nvPicPr>
        <p:blipFill>
          <a:blip r:embed="rId2"/>
          <a:srcRect l="0" t="15722" r="0" b="0"/>
          <a:stretch/>
        </p:blipFill>
        <p:spPr>
          <a:xfrm>
            <a:off x="2749680" y="2050920"/>
            <a:ext cx="56768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Straight Arrow Connector 8"/>
          <p:cNvCxnSpPr/>
          <p:nvPr/>
        </p:nvCxnSpPr>
        <p:spPr>
          <a:xfrm>
            <a:off x="1714320" y="2827440"/>
            <a:ext cx="1410120" cy="10166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11" name="Straight Arrow Connector 11"/>
          <p:cNvCxnSpPr/>
          <p:nvPr/>
        </p:nvCxnSpPr>
        <p:spPr>
          <a:xfrm>
            <a:off x="2095200" y="502416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12" name="Picture 2" descr=""/>
          <p:cNvPicPr/>
          <p:nvPr/>
        </p:nvPicPr>
        <p:blipFill>
          <a:blip r:embed="rId1"/>
          <a:srcRect l="0" t="9362" r="0" b="0"/>
          <a:stretch/>
        </p:blipFill>
        <p:spPr>
          <a:xfrm>
            <a:off x="3124080" y="2827440"/>
            <a:ext cx="563904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2236A64-3CE6-4BBD-9EF8-A21C4AC079C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itle 1"/>
          <p:cNvSpPr/>
          <p:nvPr/>
        </p:nvSpPr>
        <p:spPr>
          <a:xfrm>
            <a:off x="0" y="1943280"/>
            <a:ext cx="233208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! Ja sagatavošanas vizītes pieteikums tiks atbalstīts, šie bankas rekvizīti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tiks ietverti līgumā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un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uz norādīto kontu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tiks pārskaitīts piešķirtais finansējums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Pie bankas rekvizītiem – «Your reference» ir organizācijas iekšējais identifikators (ja tāds ir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  <p:cxnSp>
        <p:nvCxnSpPr>
          <p:cNvPr id="816" name="Straight Arrow Connector 2"/>
          <p:cNvCxnSpPr/>
          <p:nvPr/>
        </p:nvCxnSpPr>
        <p:spPr>
          <a:xfrm>
            <a:off x="2158560" y="4808160"/>
            <a:ext cx="5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775880"/>
            <a:ext cx="6870600" cy="4316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Nordic Languages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amā darba kārtī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itle 1"/>
          <p:cNvSpPr/>
          <p:nvPr/>
        </p:nvSpPr>
        <p:spPr>
          <a:xfrm>
            <a:off x="106200" y="2120760"/>
            <a:ext cx="2476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Picture 2" descr=""/>
          <p:cNvPicPr/>
          <p:nvPr/>
        </p:nvPicPr>
        <p:blipFill>
          <a:blip r:embed="rId1"/>
          <a:stretch/>
        </p:blipFill>
        <p:spPr>
          <a:xfrm>
            <a:off x="2583000" y="1582560"/>
            <a:ext cx="62276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1587240" y="104940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0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tālr.  29554403 (GSM, WhatsApp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hkdir.no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ff0000"/>
                </a:solidFill>
                <a:latin typeface="Calibri"/>
                <a:ea typeface="Verdana"/>
              </a:rPr>
              <a:t>VIAA sagatavotajiem materiāliem latviešu valodā ir </a:t>
            </a:r>
            <a:r>
              <a:rPr b="1" lang="lv-LV" sz="1900" spc="-1" strike="noStrike" u="sng">
                <a:solidFill>
                  <a:srgbClr val="ff0000"/>
                </a:solidFill>
                <a:uFillTx/>
                <a:latin typeface="Calibri"/>
                <a:ea typeface="Verdana"/>
              </a:rPr>
              <a:t>informatīvs un paskaidrojošs raksturs</a:t>
            </a:r>
            <a:r>
              <a:rPr b="1" lang="lv-LV" sz="1900" spc="-1" strike="noStrike">
                <a:solidFill>
                  <a:srgbClr val="ff0000"/>
                </a:solidFill>
                <a:latin typeface="Calibri"/>
                <a:ea typeface="Verdan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cējiem ir saistoši dokumenti, kas publicēti angļu valodā  </a:t>
            </a: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www.nordplusonline.org un norādījumi projekta pieteikuma veidlap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Content Placeholder 1" descr=""/>
          <p:cNvPicPr/>
          <p:nvPr/>
        </p:nvPicPr>
        <p:blipFill>
          <a:blip r:embed="rId1"/>
          <a:stretch/>
        </p:blipFill>
        <p:spPr>
          <a:xfrm>
            <a:off x="2901960" y="1695600"/>
            <a:ext cx="5907240" cy="40719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" descr=""/>
          <p:cNvPicPr/>
          <p:nvPr/>
        </p:nvPicPr>
        <p:blipFill>
          <a:blip r:embed="rId2"/>
          <a:stretch/>
        </p:blipFill>
        <p:spPr>
          <a:xfrm>
            <a:off x="5924520" y="3772080"/>
            <a:ext cx="3156120" cy="957240"/>
          </a:xfrm>
          <a:prstGeom prst="rect">
            <a:avLst/>
          </a:prstGeom>
          <a:ln w="0">
            <a:noFill/>
          </a:ln>
        </p:spPr>
      </p:pic>
      <p:sp>
        <p:nvSpPr>
          <p:cNvPr id="749" name="Title 1"/>
          <p:cNvSpPr/>
          <p:nvPr/>
        </p:nvSpPr>
        <p:spPr>
          <a:xfrm>
            <a:off x="-165240" y="2860560"/>
            <a:ext cx="30164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388440" y="1635120"/>
            <a:ext cx="85870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lv-LV" sz="2800" spc="-1" strike="noStrike">
                <a:solidFill>
                  <a:srgbClr val="002060"/>
                </a:solidFill>
                <a:latin typeface="Verdana"/>
                <a:ea typeface="Verdana"/>
              </a:rPr>
              <a:t>Espresso sistēma - </a:t>
            </a:r>
            <a:r>
              <a:rPr b="0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hkdir.no</a:t>
            </a:r>
            <a:r>
              <a:rPr b="0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/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Picture 2" descr=""/>
          <p:cNvPicPr/>
          <p:nvPr/>
        </p:nvPicPr>
        <p:blipFill>
          <a:blip r:embed="rId1"/>
          <a:stretch/>
        </p:blipFill>
        <p:spPr>
          <a:xfrm>
            <a:off x="517680" y="2470320"/>
            <a:ext cx="7702560" cy="329544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eft Arrow 6"/>
          <p:cNvSpPr/>
          <p:nvPr/>
        </p:nvSpPr>
        <p:spPr>
          <a:xfrm rot="1692600">
            <a:off x="5667120" y="483984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12760" y="1393560"/>
            <a:ext cx="6870600" cy="74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200" spc="-1" strike="noStrike">
                <a:solidFill>
                  <a:srgbClr val="1f4e79"/>
                </a:solidFill>
                <a:latin typeface="Calibri"/>
                <a:ea typeface="Verdana"/>
              </a:rPr>
              <a:t>https://espresso.dik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1" descr=""/>
          <p:cNvPicPr/>
          <p:nvPr/>
        </p:nvPicPr>
        <p:blipFill>
          <a:blip r:embed="rId1"/>
          <a:srcRect l="0" t="24891" r="0" b="0"/>
          <a:stretch/>
        </p:blipFill>
        <p:spPr>
          <a:xfrm>
            <a:off x="4025880" y="4721400"/>
            <a:ext cx="4660920" cy="20412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"/>
          <p:cNvPicPr/>
          <p:nvPr/>
        </p:nvPicPr>
        <p:blipFill>
          <a:blip r:embed="rId2"/>
          <a:stretch/>
        </p:blipFill>
        <p:spPr>
          <a:xfrm>
            <a:off x="2660760" y="2238480"/>
            <a:ext cx="4916520" cy="2036520"/>
          </a:xfrm>
          <a:prstGeom prst="rect">
            <a:avLst/>
          </a:prstGeom>
          <a:ln w="0">
            <a:noFill/>
          </a:ln>
        </p:spPr>
      </p:pic>
      <p:cxnSp>
        <p:nvCxnSpPr>
          <p:cNvPr id="758" name="Straight Arrow Connector 4"/>
          <p:cNvCxnSpPr/>
          <p:nvPr/>
        </p:nvCxnSpPr>
        <p:spPr>
          <a:xfrm>
            <a:off x="5638320" y="3633840"/>
            <a:ext cx="1080" cy="12708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0" y="1882800"/>
            <a:ext cx="9144000" cy="3924360"/>
          </a:xfrm>
          <a:prstGeom prst="rect">
            <a:avLst/>
          </a:prstGeom>
          <a:ln w="0">
            <a:noFill/>
          </a:ln>
        </p:spPr>
      </p:pic>
      <p:sp>
        <p:nvSpPr>
          <p:cNvPr id="761" name="Left Arrow 6"/>
          <p:cNvSpPr/>
          <p:nvPr/>
        </p:nvSpPr>
        <p:spPr>
          <a:xfrm rot="8365800">
            <a:off x="1991880" y="6081840"/>
            <a:ext cx="3019320" cy="529920"/>
          </a:xfrm>
          <a:prstGeom prst="leftArrow">
            <a:avLst>
              <a:gd name="adj1" fmla="val 50000"/>
              <a:gd name="adj2" fmla="val 5452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091960" y="415440"/>
            <a:ext cx="6095880" cy="776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zvēlamies apakšprogrammu, kurā iesniegsim sagatavošanas vizītes pieteikum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3" descr=""/>
          <p:cNvPicPr/>
          <p:nvPr/>
        </p:nvPicPr>
        <p:blipFill>
          <a:blip r:embed="rId2"/>
          <a:stretch/>
        </p:blipFill>
        <p:spPr>
          <a:xfrm>
            <a:off x="77760" y="1814400"/>
            <a:ext cx="914400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ECF3EC6-70F3-4AAD-8B83-1B56651127A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590920" cy="22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2495520" y="237960"/>
            <a:ext cx="608976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B079442-A7A9-45F1-A8B0-50D85DCDF55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801880" cy="1485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zvēlamies projekta veidu – šajā gadījumā 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sagatavošanas vizīti («Preparatory visit») 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Picture 7" descr="A screenshot of a computer&#10;&#10;Description automatically generated"/>
          <p:cNvPicPr/>
          <p:nvPr/>
        </p:nvPicPr>
        <p:blipFill>
          <a:blip r:embed="rId1"/>
          <a:srcRect l="8189" t="15003" r="56997" b="25478"/>
          <a:stretch/>
        </p:blipFill>
        <p:spPr>
          <a:xfrm>
            <a:off x="3143160" y="228600"/>
            <a:ext cx="5391360" cy="5761080"/>
          </a:xfrm>
          <a:prstGeom prst="rect">
            <a:avLst/>
          </a:prstGeom>
          <a:ln w="0">
            <a:noFill/>
          </a:ln>
        </p:spPr>
      </p:pic>
      <p:cxnSp>
        <p:nvCxnSpPr>
          <p:cNvPr id="771" name="Straight Arrow Connector 9"/>
          <p:cNvCxnSpPr/>
          <p:nvPr/>
        </p:nvCxnSpPr>
        <p:spPr>
          <a:xfrm>
            <a:off x="2090520" y="3230640"/>
            <a:ext cx="1532520" cy="169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72" name="Title 1"/>
          <p:cNvSpPr/>
          <p:nvPr/>
        </p:nvSpPr>
        <p:spPr>
          <a:xfrm>
            <a:off x="54000" y="4772160"/>
            <a:ext cx="20368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!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Studiju vizīte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r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cits projektu veids (seminārs 28.08.25.)</a:t>
            </a:r>
            <a:br>
              <a:rPr sz="1600"/>
            </a:br>
            <a:r>
              <a:rPr b="0" lang="lv-LV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Straight Arrow Connector 12"/>
          <p:cNvCxnSpPr/>
          <p:nvPr/>
        </p:nvCxnSpPr>
        <p:spPr>
          <a:xfrm>
            <a:off x="1662120" y="5106600"/>
            <a:ext cx="1961280" cy="83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24-09-17T09:25:17Z</cp:lastPrinted>
  <dcterms:modified xsi:type="dcterms:W3CDTF">2025-08-27T10:52:01Z</dcterms:modified>
  <cp:revision>189</cp:revision>
  <dc:subject/>
  <dc:title>PowerPoint Presentation</dc:title>
</cp:coreProperties>
</file>